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4869-5506-4142-B736-E9E94F44A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D0C-671D-4812-9C8D-9E932CE8C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2B9-E594-47C2-8D5B-BDC8CDCD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B4E6-1785-44A5-95C3-21003B15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E27-BDCF-43F8-B885-A93DD0C3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BD36-F559-411D-9C78-42D3AFD5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DED9-D6A8-4270-B6DF-D9AAF056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D18-5614-4E06-8BCD-ABBD262C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C1D-4ED7-4997-B775-4CB6EDE4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B61-D343-41E7-9F2D-72005340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C76-9D31-435D-831C-C65303C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A10-AC07-4F48-9C3F-ED373CA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B9B-AEA8-484C-BC62-ACC8F8DA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2D3-8AE3-4A07-B484-F631C905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C57-E451-4557-ABF6-A1894256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EDC-3510-4D43-AC99-0E2DA239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C63-1F09-4C0C-9349-A6980A5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0A7B-3785-491D-BCB5-FDE8074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C48C-025E-4839-8E38-BDF28320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D15A-56B6-473D-8D00-FAC5407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3AC-228A-4C9C-B7D7-72C2CB4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68F-8C4F-48D5-8F58-816D0CFD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B3F2-336B-4548-9A92-353CEAC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1163-EC34-4B91-8A75-B55F7B0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ECFB-498F-4A15-A33F-94881023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BAC-1C88-42AE-A3B5-C45A388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E4A-6A58-49F8-B7DA-6DB34648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BDE-6457-4AFA-B73B-069A2AB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54D-E8DE-4064-970A-AE2A597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24D-C71C-4711-9CA2-9F54632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11E-1A67-4772-94AF-8A566D3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1F8-2A6E-49FE-98C9-6A38AD9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6B8-6477-4B4A-9EF1-31C84BA7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B3D-8A24-4C7F-AD92-03912F9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7504-D22B-4099-A5A5-41B7722EA7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51B-678D-4B37-9F52-2D54FDCA8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2836440"/>
            <a:ext cx="28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Yie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2124000" y="25938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857600" y="4276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ercentage Yield 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514520"/>
          <a:ext cx="1800000" cy="36684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3"/>
          <p:cNvSpPr/>
          <p:nvPr/>
        </p:nvSpPr>
        <p:spPr>
          <a:xfrm>
            <a:off x="1750680" y="1267920"/>
            <a:ext cx="53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ctual Yield in 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roduced During an Experi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47640" y="1773360"/>
          <a:ext cx="6328080" cy="366480"/>
        </p:xfrm>
        <a:graphic>
          <a:graphicData uri="http://schemas.openxmlformats.org/drawingml/2006/table">
            <a:tbl>
              <a:tblPr/>
              <a:tblGrid>
                <a:gridCol w="6080400"/>
                <a:gridCol w="24768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oretical Yiel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s predicted by reaction equation)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40720" y="1484280"/>
          <a:ext cx="1008000" cy="366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8"/>
          <p:cNvSpPr/>
          <p:nvPr/>
        </p:nvSpPr>
        <p:spPr>
          <a:xfrm>
            <a:off x="1606680" y="171468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4"/>
          <p:cNvSpPr/>
          <p:nvPr/>
        </p:nvSpPr>
        <p:spPr>
          <a:xfrm>
            <a:off x="549360" y="2817000"/>
            <a:ext cx="56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% yield will usuall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than 100%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becaus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6"/>
          <p:cNvSpPr/>
          <p:nvPr/>
        </p:nvSpPr>
        <p:spPr>
          <a:xfrm>
            <a:off x="535320" y="348516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. The reaction ma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33160" y="406152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reacti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ay occ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0"/>
          <p:cNvSpPr/>
          <p:nvPr/>
        </p:nvSpPr>
        <p:spPr>
          <a:xfrm>
            <a:off x="532800" y="4651920"/>
            <a:ext cx="59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 Produc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uring separation and pu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2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333360"/>
          <a:ext cx="8424720" cy="457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Steps to Calculate a Percentage Y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70"/>
          <p:cNvSpPr/>
          <p:nvPr/>
        </p:nvSpPr>
        <p:spPr>
          <a:xfrm>
            <a:off x="250920" y="1052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. Convert the mass of main reactant to a number of moles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l = mass/mola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3"/>
          <p:cNvSpPr/>
          <p:nvPr/>
        </p:nvSpPr>
        <p:spPr>
          <a:xfrm>
            <a:off x="264960" y="19591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number  of mol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using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atio from the balanc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279360" y="2852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ma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ss = mol x molar m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9"/>
          <p:cNvSpPr/>
          <p:nvPr/>
        </p:nvSpPr>
        <p:spPr>
          <a:xfrm>
            <a:off x="284400" y="37893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4. Calculate the percentage yield u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4829040"/>
          <a:ext cx="1800000" cy="45720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9"/>
          <p:cNvSpPr/>
          <p:nvPr/>
        </p:nvSpPr>
        <p:spPr>
          <a:xfrm>
            <a:off x="3330720" y="45676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ual Yield in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25560" y="5133960"/>
          <a:ext cx="5015160" cy="457200"/>
        </p:xfrm>
        <a:graphic>
          <a:graphicData uri="http://schemas.openxmlformats.org/drawingml/2006/table">
            <a:tbl>
              <a:tblPr/>
              <a:tblGrid>
                <a:gridCol w="5015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oretical Yield in 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164360" y="4809960"/>
          <a:ext cx="1295280" cy="4572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Line 113"/>
          <p:cNvSpPr/>
          <p:nvPr/>
        </p:nvSpPr>
        <p:spPr>
          <a:xfrm>
            <a:off x="2962440" y="50688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5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571680" y="58579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N.B. This assumes all other reactants are present in excess, or at least in stoichiometr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76440" y="398520"/>
            <a:ext cx="7435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1  12.0g ethanol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H) is reacted to produce 5.3g of ethene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91480" y="155628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ethanol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10560" y="2392920"/>
            <a:ext cx="3774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H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4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200" y="400284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8200" y="191628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12.0 /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2700360" y="190800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228320" y="29512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330920" y="44719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26 x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2916360" y="44845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237680" y="34480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6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since 1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28"/>
          <p:cNvSpPr/>
          <p:nvPr/>
        </p:nvSpPr>
        <p:spPr>
          <a:xfrm>
            <a:off x="3117240" y="5047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19400" y="5413320"/>
          <a:ext cx="765360" cy="397080"/>
        </p:xfrm>
        <a:graphic>
          <a:graphicData uri="http://schemas.openxmlformats.org/drawingml/2006/table">
            <a:tbl>
              <a:tblPr/>
              <a:tblGrid>
                <a:gridCol w="76536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4700520" y="5213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71680" y="185760"/>
            <a:ext cx="7967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2  8.85 g of sodium hydroxide (NaOH) is reacted to produce 9.45 g of  sodium carbonate (Na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12000" y="155772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NaOH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31080" y="2394360"/>
            <a:ext cx="49435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2NaOH  +  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Na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3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596880" y="3983400"/>
            <a:ext cx="484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267920" y="191628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8.85 / (23.0 + 16.0 + 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387680" y="1908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314000" y="2951280"/>
            <a:ext cx="549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319760" y="44719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111 x (2(23)+12+3(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66960" y="4484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.7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240200" y="344808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21/2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(since 2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8"/>
          <p:cNvSpPr/>
          <p:nvPr/>
        </p:nvSpPr>
        <p:spPr>
          <a:xfrm>
            <a:off x="3062520" y="50011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76480" y="5500800"/>
          <a:ext cx="1095480" cy="396720"/>
        </p:xfrm>
        <a:graphic>
          <a:graphicData uri="http://schemas.openxmlformats.org/drawingml/2006/table">
            <a:tbl>
              <a:tblPr/>
              <a:tblGrid>
                <a:gridCol w="10954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4707000" y="52059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80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% Atom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The greater the % atom economy of a reaction, the more 'efficient' or 'economic' it is likely to b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%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0360" y="285768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Calculate the total mass of the reactants for the numbers of moles in the reaction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60360" y="3500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Calculate the total mass of the “desired product” for the numbers of moles in the reaction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75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76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ass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ass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648000" y="4419720"/>
              <a:ext cx="251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%  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5214960" y="4071960"/>
            <a:ext cx="33577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512040" y="554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428760" y="142920"/>
            <a:ext cx="828648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11960" y="37116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44000" y="45100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7" descr=""/>
          <p:cNvPicPr/>
          <p:nvPr/>
        </p:nvPicPr>
        <p:blipFill>
          <a:blip r:embed="rId1"/>
          <a:stretch/>
        </p:blipFill>
        <p:spPr>
          <a:xfrm>
            <a:off x="1011240" y="2998800"/>
            <a:ext cx="7066080" cy="390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%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011960" y="333684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1:43:52Z</dcterms:created>
  <dc:creator>Mike Hughes</dc:creator>
  <dc:description/>
  <dc:language>en-US</dc:language>
  <cp:lastModifiedBy>Nico Van De Casteele</cp:lastModifiedBy>
  <dcterms:modified xsi:type="dcterms:W3CDTF">2014-09-22T00:09:52Z</dcterms:modified>
  <cp:revision>34</cp:revision>
  <dc:subject/>
  <dc:title>Slide 1</dc:title>
</cp:coreProperties>
</file>